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168-F1C4-48CA-B38F-6506AB7A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254-23ED-4E4C-8713-0E67437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19D-2809-4049-AC78-23CF0C6A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4A4-FF12-442F-A1BB-051D2078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642-69A2-467D-AB75-38998BC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24D-5ED2-4B35-96B0-D136EB0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B98-F5A7-4444-8374-6223832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614-B9FC-4865-AC1C-FBC765C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F71-B775-4FEF-94E8-2B4A3B8D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0B5-B34E-4DE6-8A46-2B121E7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C23-715B-41CF-A015-2639E00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2B9-AEA8-4DA9-95F2-A121936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6651-5E4E-4734-ABB4-F893D3175F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ияние табака на организм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6" descr="519x346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влияние никотина на человеческий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на какие системы органов влияет нико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ёгк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5" descr="cigarettelungs-full"/>
          <p:cNvPicPr/>
          <p:nvPr/>
        </p:nvPicPr>
        <p:blipFill>
          <a:blip r:embed="rId1"/>
          <a:stretch/>
        </p:blipFill>
        <p:spPr>
          <a:xfrm>
            <a:off x="250920" y="1700280"/>
            <a:ext cx="424980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, кто много курит, заболевают раком лёгкого в двадцать раз чаще, чем некурящ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рдечно-сосудистая систе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вызывает преждевременный износ сердца, сосудов, также как и других жизненно важных орган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 выкуренная сигарета увеличивает пульс на двадцать ударов в минуту, поднимает давление на несколько десятков миллиметров, понижает кожную температуру. Эти изменения держатся около тридцати мин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в течение дня сердце постоянно получает дополнительную нагрузку, которая со временем приводит к заболева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зг и нервная систе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вредном действии никотина на центральную нервную систему можно судить по действию первой выкуренной папиросы: тошнота, рвота, холодный пот, иногда потеря сознания — вот симптомы, которые говорят об отравлении клеток моз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img_3634_02"/>
          <p:cNvPicPr/>
          <p:nvPr/>
        </p:nvPicPr>
        <p:blipFill>
          <a:blip r:embed="rId1"/>
          <a:stretch/>
        </p:blipFill>
        <p:spPr>
          <a:xfrm>
            <a:off x="395280" y="2276640"/>
            <a:ext cx="417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удочно-кишечный тр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ящие иногда говорят: курение делает пищу более вкусной. Конечно, если предварительно наполнить рот какой-либо горечью, то после этого самая обычная пища покажется вкусной. На самом деле курение снижает аппетит. Давно замечено: бросивший курить начинает прибавлять в весе. После прекращения никотиновой интоксикации все обменные процессы улучшаются, лучше усваивается потребляемая пищ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ельный исх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абаке содержится никотин — чрезвычайно ядовитое вещество. Выкурив пачку сигарет, человек поглощает смертельную дозу его. Но пачка выкуривается не сразу — у человека вырабатывается некоторая устойчивость к я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тистика говорит: смертность от сердечно-сосудистых заболеваний среди много курящих в два раза выше, чем среди некурящ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20340341_21"/>
          <p:cNvPicPr/>
          <p:nvPr/>
        </p:nvPicPr>
        <p:blipFill>
          <a:blip r:embed="rId1"/>
          <a:stretch/>
        </p:blipFill>
        <p:spPr>
          <a:xfrm>
            <a:off x="4648320" y="2270160"/>
            <a:ext cx="40384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42:35Z</dcterms:created>
  <dc:creator>Admin</dc:creator>
  <dc:description/>
  <dc:language>en-US</dc:language>
  <cp:lastModifiedBy>07100</cp:lastModifiedBy>
  <dcterms:modified xsi:type="dcterms:W3CDTF">2009-12-26T08:24:44Z</dcterms:modified>
  <cp:revision>4</cp:revision>
  <dc:subject/>
  <dc:title>Влияние табака на организм человека</dc:title>
</cp:coreProperties>
</file>